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6.jpeg" ContentType="image/jpeg"/>
  <Override PartName="/ppt/media/CAMERA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2F8C-7F8E-4789-94A0-5C242B2BDE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8488-79BF-41F8-9381-7DDB51E3912C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3ABF-C5B6-444C-8805-89B20AFF7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7872-B1BC-4969-9151-4D382A7B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B875-538A-4EB7-90D6-FB7939FE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D38B-729A-481B-B758-19F99D2F8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8D59-1D34-4207-9148-4C2160BB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BFA1-6FF5-44A2-AAF3-EE313DBF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B318-EA32-4B63-A585-A6D66BA5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2C49-011E-4CBA-8328-D023A5E1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6ACB-8275-4909-9A96-066FB4ED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E995-AC23-4FB8-974E-CFE33B60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82E8-91C2-4078-A1B2-4D6F2A7A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1DCD-2EB2-44ED-A5B1-48BF9520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3E46-9E60-4AB8-80A4-BCEB2C065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1699920"/>
            <a:ext cx="7777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職業レディネス・テスト　第３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16360" y="3499920"/>
            <a:ext cx="27352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200" spc="-1" strike="noStrike" u="sng">
                <a:solidFill>
                  <a:srgbClr val="000000"/>
                </a:solidFill>
                <a:uFillTx/>
                <a:latin typeface="Times New Roman"/>
              </a:rPr>
              <a:t>実施手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テキスト ボックス 3"/>
          <p:cNvSpPr/>
          <p:nvPr/>
        </p:nvSpPr>
        <p:spPr>
          <a:xfrm>
            <a:off x="7236000" y="549360"/>
            <a:ext cx="1584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Ａ－２資料⑤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3600360" cy="1584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ＭＳ Ｐゴシック"/>
              </a:rPr>
              <a:t>7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１：プロフィールの作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3600360" cy="41148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検査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検査の標準得点を記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検査は実線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検査は点線で（色を変えても良い）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ASEC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のプロフィールを作成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検査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P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で作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6" descr="ＶＲＴプロフィール1_1"/>
          <p:cNvPicPr/>
          <p:nvPr/>
        </p:nvPicPr>
        <p:blipFill>
          <a:blip r:embed="rId1"/>
          <a:stretch/>
        </p:blipFill>
        <p:spPr>
          <a:xfrm>
            <a:off x="4140360" y="260280"/>
            <a:ext cx="467172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3600360" cy="1584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ＭＳ Ｐゴシック"/>
              </a:rPr>
              <a:t>8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２：プロフィールの解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3600360" cy="41148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検査から興味の分化を調べ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「興味と自信の六角形」を作成す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興味と自信の関係、バランスをみ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5" descr="ＶＲＴワーク2_2"/>
          <p:cNvPicPr/>
          <p:nvPr/>
        </p:nvPicPr>
        <p:blipFill>
          <a:blip r:embed="rId1"/>
          <a:stretch/>
        </p:blipFill>
        <p:spPr>
          <a:xfrm>
            <a:off x="4140360" y="351000"/>
            <a:ext cx="4728960" cy="65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ＭＳ Ｐゴシック"/>
              </a:rPr>
              <a:t>8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３　職業との照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興味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ASEC)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の第１領域を囲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囲まれた領域の中で、興味のある職業名をチェッ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基礎的志向性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P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）の第１領域が含まれる箱を囲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囲まれた中で、興味のある職業名をチェッ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興味と基礎的志向性で共通にチェックされた職業名を書き出す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職業リス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ＶＲＴwork_2"/>
          <p:cNvPicPr/>
          <p:nvPr/>
        </p:nvPicPr>
        <p:blipFill>
          <a:blip r:embed="rId1"/>
          <a:stretch/>
        </p:blipFill>
        <p:spPr>
          <a:xfrm>
            <a:off x="304920" y="404640"/>
            <a:ext cx="8839080" cy="61804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324000" y="333360"/>
            <a:ext cx="29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ＶＲＴワーク4_2"/>
          <p:cNvPicPr/>
          <p:nvPr/>
        </p:nvPicPr>
        <p:blipFill>
          <a:blip r:embed="rId1"/>
          <a:stretch/>
        </p:blipFill>
        <p:spPr>
          <a:xfrm>
            <a:off x="4067280" y="351000"/>
            <a:ext cx="4727520" cy="6507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3456000" cy="1657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ＭＳ Ｐゴシック"/>
              </a:rPr>
              <a:t>9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プラス　特別集計等、追加の分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3640" y="2492280"/>
            <a:ext cx="3384360" cy="41148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検査の「○」の合計を数え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検査の「－」の合計を数え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検査の下位尺度の「○」の数を数え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ＭＳ Ｐゴシック"/>
              </a:rPr>
              <a:t>10.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解釈上のポイント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検査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検査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検査について：全体のレベルは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検査について：プロフィールの分化度は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検査について：プロフィールの一貫性は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検査のレベル、特徴は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検査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検査の関係は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8056440" cy="424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興味と自信のプロフィー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4400" spc="-1" strike="noStrike">
                <a:solidFill>
                  <a:srgbClr val="000000"/>
                </a:solidFill>
                <a:latin typeface="ＭＳ Ｐゴシック"/>
              </a:rPr>
              <a:t>．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解釈上のポイント（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検査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P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の全体のレベルは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P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のそれぞれの関係は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例えば・・・単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型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P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型など・・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下位尺度のそれぞれのレベルは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検査との関係は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例えば・・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が高い場合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はどうか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が高い場合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はどうか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はどうか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基礎的志向性のプロフィー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611280" y="2349360"/>
            <a:ext cx="8208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検査の下位尺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395280" y="1995480"/>
            <a:ext cx="828036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A検査表2"/>
          <p:cNvPicPr/>
          <p:nvPr/>
        </p:nvPicPr>
        <p:blipFill>
          <a:blip r:embed="rId1"/>
          <a:stretch/>
        </p:blipFill>
        <p:spPr>
          <a:xfrm>
            <a:off x="4211640" y="333360"/>
            <a:ext cx="4486320" cy="61722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3581280" cy="1904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問題用紙</a:t>
            </a:r>
            <a:br>
              <a:rPr sz="4400"/>
            </a:b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＊Ａ検査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（職業興味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2819520"/>
            <a:ext cx="3048120" cy="3657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66"/>
                </a:solidFill>
                <a:latin typeface="Times New Roman"/>
              </a:rPr>
              <a:t>仕事の内容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についての</a:t>
            </a:r>
            <a:r>
              <a:rPr b="0" lang="ja-JP" sz="3200" spc="-1" strike="noStrike">
                <a:solidFill>
                  <a:srgbClr val="ff0066"/>
                </a:solidFill>
                <a:latin typeface="Times New Roman"/>
              </a:rPr>
              <a:t>興味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回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「やりたい」、「どちらともいえない」、「やりたくない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211640" y="333360"/>
            <a:ext cx="4537080" cy="626436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Ｄ志向の下位尺度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849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Ｄ１（情報を集め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たくさんの情報を集めたいという気持ちが強いことを示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Ｄ２（好奇心を満たす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世の中や社会のしくみに対して好奇心が旺盛で、知り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い気持ちが強いことを示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Ｄ３（情報を活用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集めた情報をきちんと整理し、順序立てて管理し、論理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に活用したい気持ちが強いことを示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Ｐ志向の下位尺度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849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Ｐ１（自分を表現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人前できちんと意見を述べ、自己表現を行いたいとい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気持ちが強いことを示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Ｐ２（みんなと行動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一人で過ごすよりたくさんの人と一緒に行動したいとい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気持ちが強いことを示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Times New Roman"/>
              </a:rPr>
              <a:t>Ｐ３（人の役にたつ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人の気持ちに敏感で、他人の援助をしたいという気持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が強いことを示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Times New Roman"/>
              </a:rPr>
              <a:t>Ｔ志向の下位尺度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849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Ｔ１（物をつくる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　道具や機械を使うような物づくりを好む気持ち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強いことを示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Ｔ２（自然に親し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　自然の環境の中で動植物を観察したり、身体を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かすことを好む気持ちが強いことを示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職業レディネス・テスト　第３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32000" y="400536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200" spc="-1" strike="noStrike">
                <a:solidFill>
                  <a:srgbClr val="000000"/>
                </a:solidFill>
                <a:latin typeface="Times New Roman"/>
              </a:rPr>
              <a:t>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309564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．回答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3313080" cy="41148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検査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検査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検査とも１行目から番号順に縦に回答。１列終わったら、隣の行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VRT回答用紙1_2"/>
          <p:cNvPicPr/>
          <p:nvPr/>
        </p:nvPicPr>
        <p:blipFill>
          <a:blip r:embed="rId1"/>
          <a:stretch/>
        </p:blipFill>
        <p:spPr>
          <a:xfrm>
            <a:off x="4183200" y="333360"/>
            <a:ext cx="4733640" cy="6191280"/>
          </a:xfrm>
          <a:prstGeom prst="rect">
            <a:avLst/>
          </a:prstGeom>
          <a:ln w="0">
            <a:noFill/>
          </a:ln>
        </p:spPr>
      </p:pic>
      <p:sp>
        <p:nvSpPr>
          <p:cNvPr id="58" name="Line 5"/>
          <p:cNvSpPr/>
          <p:nvPr/>
        </p:nvSpPr>
        <p:spPr>
          <a:xfrm>
            <a:off x="4716360" y="1628640"/>
            <a:ext cx="0" cy="115272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6"/>
          <p:cNvSpPr/>
          <p:nvPr/>
        </p:nvSpPr>
        <p:spPr>
          <a:xfrm>
            <a:off x="5003640" y="1628640"/>
            <a:ext cx="0" cy="115272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7"/>
          <p:cNvSpPr/>
          <p:nvPr/>
        </p:nvSpPr>
        <p:spPr>
          <a:xfrm>
            <a:off x="4716360" y="3429000"/>
            <a:ext cx="0" cy="129708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5076720" y="3500280"/>
            <a:ext cx="0" cy="12240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4140360" y="404640"/>
            <a:ext cx="4752720" cy="626436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B検査表紙2"/>
          <p:cNvPicPr/>
          <p:nvPr/>
        </p:nvPicPr>
        <p:blipFill>
          <a:blip r:embed="rId1"/>
          <a:stretch/>
        </p:blipFill>
        <p:spPr>
          <a:xfrm>
            <a:off x="4284720" y="333360"/>
            <a:ext cx="4548240" cy="63244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37720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＊Ｂ検査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（基礎的志向性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66"/>
                </a:solidFill>
                <a:latin typeface="Times New Roman"/>
              </a:rPr>
              <a:t>日常生活の興味や行動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について回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「あてはまる」、「あてはまらない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4284720" y="333360"/>
            <a:ext cx="4535280" cy="61912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検査表紙2"/>
          <p:cNvPicPr/>
          <p:nvPr/>
        </p:nvPicPr>
        <p:blipFill>
          <a:blip r:embed="rId1"/>
          <a:stretch/>
        </p:blipFill>
        <p:spPr>
          <a:xfrm>
            <a:off x="3962520" y="228600"/>
            <a:ext cx="4671720" cy="64310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342900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＊Ｃ検査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（職務遂行の自信度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2362320"/>
            <a:ext cx="3429000" cy="41148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66"/>
                </a:solidFill>
                <a:latin typeface="Times New Roman"/>
              </a:rPr>
              <a:t>仕事の内容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についての</a:t>
            </a:r>
            <a:r>
              <a:rPr b="0" lang="ja-JP" sz="3200" spc="-1" strike="noStrike">
                <a:solidFill>
                  <a:srgbClr val="ff0066"/>
                </a:solidFill>
                <a:latin typeface="Times New Roman"/>
              </a:rPr>
              <a:t>自信度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回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「自信がある」、「どちらともいえない」、「自信がない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924360" y="260280"/>
            <a:ext cx="4680000" cy="640872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VRT回答用紙1_2"/>
          <p:cNvPicPr/>
          <p:nvPr/>
        </p:nvPicPr>
        <p:blipFill>
          <a:blip r:embed="rId1"/>
          <a:stretch/>
        </p:blipFill>
        <p:spPr>
          <a:xfrm>
            <a:off x="324000" y="1700280"/>
            <a:ext cx="3857400" cy="47530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324000" y="1773360"/>
            <a:ext cx="3887640" cy="47512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79280" y="476280"/>
            <a:ext cx="388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381636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７．採点方法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検査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検査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00360" y="333360"/>
            <a:ext cx="4174920" cy="61200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採点のときは</a:t>
            </a:r>
            <a:r>
              <a:rPr b="0" lang="ja-JP" sz="3200" spc="-1" strike="noStrike">
                <a:solidFill>
                  <a:srgbClr val="ff0066"/>
                </a:solidFill>
                <a:latin typeface="Times New Roman"/>
              </a:rPr>
              <a:t>横一列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毎に○の数、ーの数を数え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66"/>
                </a:solidFill>
                <a:latin typeface="Times New Roman"/>
              </a:rPr>
              <a:t>合計点＝「○」の数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×</a:t>
            </a:r>
            <a:r>
              <a:rPr b="0" lang="ja-JP" sz="3200" spc="-1" strike="noStrike">
                <a:solidFill>
                  <a:srgbClr val="ff0066"/>
                </a:solidFill>
                <a:latin typeface="Times New Roman"/>
              </a:rPr>
              <a:t>２＋「－」の数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×</a:t>
            </a:r>
            <a:r>
              <a:rPr b="0" lang="ja-JP" sz="3200" spc="-1" strike="noStrike">
                <a:solidFill>
                  <a:srgbClr val="ff0066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「やりたい」「自信がある」（○）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・・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「やりたくない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自信がない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×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）・・・０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「どちらともいえない」（ー）・・・１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9"/>
          <p:cNvSpPr/>
          <p:nvPr/>
        </p:nvSpPr>
        <p:spPr>
          <a:xfrm>
            <a:off x="539640" y="2637000"/>
            <a:ext cx="251964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0"/>
          <p:cNvSpPr/>
          <p:nvPr/>
        </p:nvSpPr>
        <p:spPr>
          <a:xfrm>
            <a:off x="539640" y="2852640"/>
            <a:ext cx="251964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1"/>
          <p:cNvSpPr/>
          <p:nvPr/>
        </p:nvSpPr>
        <p:spPr>
          <a:xfrm>
            <a:off x="539640" y="5516640"/>
            <a:ext cx="251964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2"/>
          <p:cNvSpPr/>
          <p:nvPr/>
        </p:nvSpPr>
        <p:spPr>
          <a:xfrm>
            <a:off x="539640" y="5734080"/>
            <a:ext cx="251964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3059280" y="2565360"/>
            <a:ext cx="1008000" cy="12240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3059280" y="5300640"/>
            <a:ext cx="1008000" cy="12240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VRT回答用紙1_2"/>
          <p:cNvPicPr/>
          <p:nvPr/>
        </p:nvPicPr>
        <p:blipFill>
          <a:blip r:embed="rId1"/>
          <a:stretch/>
        </p:blipFill>
        <p:spPr>
          <a:xfrm>
            <a:off x="324000" y="1700280"/>
            <a:ext cx="3857400" cy="475308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83" name="Rectangle 3"/>
          <p:cNvSpPr/>
          <p:nvPr/>
        </p:nvSpPr>
        <p:spPr>
          <a:xfrm>
            <a:off x="324000" y="1773360"/>
            <a:ext cx="3887640" cy="47512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79280" y="476280"/>
            <a:ext cx="388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381636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８．採点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検査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00360" y="333360"/>
            <a:ext cx="4174920" cy="61200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採点のときは</a:t>
            </a:r>
            <a:r>
              <a:rPr b="0" lang="ja-JP" sz="3200" spc="-1" strike="noStrike">
                <a:solidFill>
                  <a:srgbClr val="ff0066"/>
                </a:solidFill>
                <a:latin typeface="Times New Roman"/>
              </a:rPr>
              <a:t>横一列毎に○の数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数え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の合計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D1</a:t>
            </a:r>
            <a:r>
              <a:rPr b="0" lang="ja-JP" sz="3200" spc="-1" strike="noStrike">
                <a:solidFill>
                  <a:srgbClr val="ff0066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D2</a:t>
            </a:r>
            <a:r>
              <a:rPr b="0" lang="ja-JP" sz="3200" spc="-1" strike="noStrike">
                <a:solidFill>
                  <a:srgbClr val="ff0066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D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の合計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1</a:t>
            </a:r>
            <a:r>
              <a:rPr b="0" lang="ja-JP" sz="3200" spc="-1" strike="noStrike">
                <a:solidFill>
                  <a:srgbClr val="3333cc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2</a:t>
            </a:r>
            <a:r>
              <a:rPr b="0" lang="ja-JP" sz="3200" spc="-1" strike="noStrike">
                <a:solidFill>
                  <a:srgbClr val="3333cc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の合計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1</a:t>
            </a:r>
            <a:r>
              <a:rPr b="0" lang="ja-JP" sz="3200" spc="-1" strike="noStrike">
                <a:solidFill>
                  <a:srgbClr val="663300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</a:t>
            </a:r>
            <a:r>
              <a:rPr b="0" lang="ja-JP" sz="3200" spc="-1" strike="noStrike">
                <a:solidFill>
                  <a:srgbClr val="6633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11280" y="4076640"/>
            <a:ext cx="0" cy="93672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8"/>
          <p:cNvSpPr/>
          <p:nvPr/>
        </p:nvSpPr>
        <p:spPr>
          <a:xfrm>
            <a:off x="684360" y="4076640"/>
            <a:ext cx="215892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9"/>
          <p:cNvSpPr/>
          <p:nvPr/>
        </p:nvSpPr>
        <p:spPr>
          <a:xfrm>
            <a:off x="2987640" y="3933720"/>
            <a:ext cx="216000" cy="21600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2987640" y="4365720"/>
            <a:ext cx="216000" cy="215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11"/>
          <p:cNvSpPr/>
          <p:nvPr/>
        </p:nvSpPr>
        <p:spPr>
          <a:xfrm>
            <a:off x="2987640" y="4869000"/>
            <a:ext cx="216000" cy="21564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12"/>
          <p:cNvSpPr/>
          <p:nvPr/>
        </p:nvSpPr>
        <p:spPr>
          <a:xfrm>
            <a:off x="3780000" y="4076640"/>
            <a:ext cx="215640" cy="21600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ＶＲＴ換算表2_2"/>
          <p:cNvPicPr/>
          <p:nvPr/>
        </p:nvPicPr>
        <p:blipFill>
          <a:blip r:embed="rId1"/>
          <a:stretch/>
        </p:blipFill>
        <p:spPr>
          <a:xfrm>
            <a:off x="4500720" y="549360"/>
            <a:ext cx="4201920" cy="57830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439272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．標準得点の算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3671640" cy="41148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回答用紙の合計点を</a:t>
            </a:r>
            <a:r>
              <a:rPr b="0" lang="ja-JP" sz="2800" spc="-1" strike="noStrike">
                <a:solidFill>
                  <a:srgbClr val="ff0066"/>
                </a:solidFill>
                <a:latin typeface="Times New Roman"/>
              </a:rPr>
              <a:t>裏面の換算表の合計点へ転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その際に▼マークで紙を折るとよ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合計点の値を粗点とし、対応する標準得点を記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66ff"/>
                </a:solidFill>
                <a:latin typeface="Times New Roman"/>
              </a:rPr>
              <a:t>男性は上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女性は下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4572000" y="549360"/>
            <a:ext cx="4248000" cy="583236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3851280" cy="934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．結果の整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3745080" cy="46800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ワークシートの活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66"/>
                </a:solidFill>
                <a:latin typeface="Times New Roman"/>
              </a:rPr>
              <a:t>①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work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プロフィールの作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66"/>
                </a:solidFill>
                <a:latin typeface="Times New Roman"/>
              </a:rPr>
              <a:t>②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work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プロフィールの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66"/>
                </a:solidFill>
                <a:latin typeface="Times New Roman"/>
              </a:rPr>
              <a:t>③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work</a:t>
            </a:r>
            <a:r>
              <a:rPr b="0" lang="ja-JP" sz="2800" spc="-1" strike="noStrike">
                <a:solidFill>
                  <a:srgbClr val="ff0066"/>
                </a:solidFill>
                <a:latin typeface="Times New Roman"/>
              </a:rPr>
              <a:t>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職業との照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66"/>
                </a:solidFill>
                <a:latin typeface="Times New Roman"/>
              </a:rPr>
              <a:t>④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work</a:t>
            </a:r>
            <a:r>
              <a:rPr b="0" lang="ja-JP" sz="2800" spc="-1" strike="noStrike">
                <a:solidFill>
                  <a:srgbClr val="ff0066"/>
                </a:solidFill>
                <a:latin typeface="Times New Roman"/>
              </a:rPr>
              <a:t>プラ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特別集計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ＶＲＴワーク表紙_2"/>
          <p:cNvPicPr/>
          <p:nvPr/>
        </p:nvPicPr>
        <p:blipFill>
          <a:blip r:embed="rId1"/>
          <a:stretch/>
        </p:blipFill>
        <p:spPr>
          <a:xfrm>
            <a:off x="4643280" y="549360"/>
            <a:ext cx="42386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3T07:19:57Z</dcterms:created>
  <dc:creator>職務・キャリア分析</dc:creator>
  <dc:description/>
  <dc:language>en-US</dc:language>
  <cp:lastModifiedBy>厚生労働省ネットワークシステム</cp:lastModifiedBy>
  <cp:lastPrinted>2015-05-25T07:59:35Z</cp:lastPrinted>
  <dcterms:modified xsi:type="dcterms:W3CDTF">2015-05-25T10:52:29Z</dcterms:modified>
  <cp:revision>43</cp:revision>
  <dc:subject/>
  <dc:title>職業レディネス・テスト　第3版</dc:title>
</cp:coreProperties>
</file>