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71960" cy="3729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100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6F80-930A-45E1-B4BB-5BF0DEE1C6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スライド番号プレースホルダ 3"/>
          <p:cNvSpPr/>
          <p:nvPr/>
        </p:nvSpPr>
        <p:spPr>
          <a:xfrm>
            <a:off x="3854520" y="9441000"/>
            <a:ext cx="2950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2B4-509F-4DC6-81B9-83A08C8A048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2F9-DC47-4F7C-9C77-201D1035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A16-8B97-401E-ABC4-47B6E93C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FAE-A088-43F0-9064-90445B13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5B3-B57D-4C16-8D28-BDE50585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482-E929-4A4B-9CB4-58FB73EF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E33-A3FF-41EC-BF59-06FC8A1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FE6-2ECB-4AE4-A32C-82832BE7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039-BD68-43A1-8D05-8A0273A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28D-7B5A-4E0D-B893-6CF32041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92C-9416-4099-B439-2725ED4A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A99-C12C-4670-B7DB-C3A970D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F80-7A52-4251-BBC7-C9C3C24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365-4D20-4E4D-8C82-20DB324E03C5}" type="slidenum">
              <a:rPr b="0" lang="ja-JP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26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ＯＨＢＹカードを素材とした演習</a:t>
            </a: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カードの演習と職業理解</a:t>
            </a:r>
            <a:br>
              <a:rPr sz="4000"/>
            </a:br>
            <a:br>
              <a:rPr sz="40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大学等でのキャリア教育プログラム（活用案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２コマ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7164360" y="333360"/>
            <a:ext cx="1511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－７資料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7164360" y="765000"/>
            <a:ext cx="1511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Ａ－８資料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演習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-1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全体の分類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机の上に分類のカードを並べ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選択する、選択しない、考え中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絵や写真の方を上にして、トランプのようによく切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絵や写真の方をみながら、３つのグループに分類。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できるだけ絵や写真に表されている仕事だけをみ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注意：「おもて面」をみて、どんな仕事かわからないと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裏返して職業名をみてもよ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7-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分類の記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記録シートを使って、分けたカードを記録す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選択する」、「考え中」、「選択しない」の分類カードごとに○をつける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注意：基本方法では、個別職業についての記録用紙を使わないが、キャリア教育プログラムで実施する場合には、２コマ目で振り返りをするため、記録しておく。記録用紙は別途、用意しておくが、手引き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18-P19</a:t>
            </a: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のカウンセラーシートのようなイメージ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職業カード分析シートの第１セッションの欄に記入する（各選択のカードの枚数を数えて記入）（手引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2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7-3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．分類の解釈　①「選択しないカード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「選択しない」に分類されたカード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使う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その職業を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選ばなかった理由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考えて、理由が似ているカードを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小さいグループにまとめていく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グループができたら、「職業カード分析シート」の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第２セッション</a:t>
            </a: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を行う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各グループのカード番号を書き留め、選択しない理由を書き留め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裏返して、興味領域や産業ごとに色の枚数を確認する。（どんな色が多かったのか？）。領域や産業の内容は説明書で確認す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自分は、どんな仕事を選択しないのかを考えて、まとめ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記入の例（「選択しない」カードのグループ別解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98064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１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,7,1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道具や機械を使って作業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２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20,45,3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戸外での活動・動物を扱う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３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,4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運転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,35,8,38,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才能が必要な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５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,17,24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医療関係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６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,30,34,37,39,41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人の世話をす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７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,18,46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カウンターで接客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８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,25,36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販売の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グループ９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23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2400" spc="-1" strike="noStrike">
                <a:solidFill>
                  <a:srgbClr val="4f81bd"/>
                </a:solidFill>
                <a:latin typeface="Calibri"/>
              </a:rPr>
              <a:t>いろいろな場所に行って大勢の人と関わる仕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◆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まとめ：人と関わる仕事、外で身体を動かす仕事、機械を扱う仕事は選択しないことがわかった。色では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７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６枚、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が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）　全部で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1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7-4.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分類の解釈　②「選択する」カー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「選択する」に分類されたカード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を使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選択したカードに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共通の特徴を考え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カードのうち、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最も好きなカードから順番に５つの職業を選んで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順位をつけ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選んだら順番にカード番号を書き留め、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した理由を書き留め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裏返して、興味領域や産業ごとに色の枚数を確認する。（どんな色が多かったのか？）。領域や産業の内容は説明書で確認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自分は、どんな仕事を選択したのかを考えて、まとめ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記入例：「選択する」カードの順位付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選択したカー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Calibri"/>
              </a:rPr>
              <a:t>順位：理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１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42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自分のペースで仕事ができそう）　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２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28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同上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３位：５（研究のような仕事はやってみたいから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４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19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静かな環境で落ち着いてできる仕事のような気がするから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５位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16</a:t>
            </a: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（同上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4f81bd"/>
                </a:solidFill>
                <a:latin typeface="Calibri"/>
              </a:rPr>
              <a:t>そのほか：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22,26,2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◆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まとめ：共通点はデスクワークであること、データや情報を扱うこと（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１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１枚、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領域２枚）　全部で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ja-JP" sz="2700" spc="-1" strike="noStrike">
                <a:solidFill>
                  <a:srgbClr val="ff0000"/>
                </a:solidFill>
                <a:latin typeface="Calibri"/>
              </a:rPr>
              <a:t>枚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-8.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まと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職業カード分析シート」の第３セッション（手引き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.13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）に記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「選択した職業」と「選択しなかった職業」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職業興味の違いを比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次回のワークに向けた準備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次回の時間までに、職業について調べてくる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①選択した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位までの職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②「考え中」となった職業の中から好き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　　ものを３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・「セッションの後で」の欄に感想を記入す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632720" cy="2089080"/>
          </a:xfrm>
          <a:prstGeom prst="rect">
            <a:avLst/>
          </a:prstGeom>
          <a:noFill/>
          <a:ln w="57240">
            <a:solidFill>
              <a:srgbClr val="00b050"/>
            </a:solidFill>
            <a:prstDash val="lgDash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２．職業理解のセッション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続き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コマ目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1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グループワークの導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グループの作成（３～４人のグループを作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グループワーク作業の目的、やり方について説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目的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の実習で選ばれた職業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ついての情報を交換して、理解を深め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やり方：お互いの意見をよく聞く。説明を聞い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たら、質問あるいは、何らかのコメントを返す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　  ようにす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-2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グループワークの実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準備：記録用紙を配る。グループメンバーの学年、氏名、所属を記入。職業名とそれぞれに関するメモがとれるようになってい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調べてきた職業のうち、発表するための２つを選ぶ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グループ内での発表の順番を決め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発表の際に、発表する職業のカードを用意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職業について調べたことを話す前に、どうして、この職業を選択したのかを簡単に説明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職業について調べてきたことを説明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一人分の発表が終わったら、皆で意見交換を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最後にグループワークの振り返りをす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</a:rPr>
              <a:t>記録用紙に感想をまとめて、提出してもらう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4f81bd"/>
                </a:solidFill>
                <a:latin typeface="Calibri"/>
              </a:rPr>
              <a:t>プログラムの概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557000"/>
            <a:ext cx="4140000" cy="453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を使った演習のセッショ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分間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１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と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２．演習の目的とやり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方の解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３．演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４．まと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3"/>
          <p:cNvSpPr/>
          <p:nvPr/>
        </p:nvSpPr>
        <p:spPr>
          <a:xfrm>
            <a:off x="4788000" y="1557360"/>
            <a:ext cx="4140000" cy="453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職業理解のセッション（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分間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１．グループワークの導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入（グループの作成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など）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２．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カードの分類の</a:t>
            </a:r>
            <a:br>
              <a:rPr sz="3000"/>
            </a:b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　　振り返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３．職業調べの発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４．まと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-1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カード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海外で発達した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カードソート技法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参考として、日本でのキャリアガイダンス向けのツールとして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年に開発されたカードソート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ハンドブック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中学生、高校生向けの職業情報ツール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-ROM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提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用いられた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絵や写真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活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1-2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．職業カードソート法と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もともとは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カウンセリング場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で活用する道具（</a:t>
            </a:r>
            <a:r>
              <a:rPr b="0" lang="ja-JP" sz="3200" spc="-1" strike="noStrike">
                <a:solidFill>
                  <a:srgbClr val="0070c0"/>
                </a:solidFill>
                <a:latin typeface="Calibri"/>
              </a:rPr>
              <a:t>職業カードソート技法）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として発達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96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年代～　欧米で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個人を区別する時にそれぞれの人物を特徴づけるものは何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人の個性の核となる部分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は、個人が行う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の内容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ja-JP" sz="2800" spc="-1" strike="noStrike">
                <a:solidFill>
                  <a:srgbClr val="ff0000"/>
                </a:solidFill>
                <a:latin typeface="Calibri"/>
              </a:rPr>
              <a:t>選択したものを構造化する方法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によって見いだされる。→分類とそれについての解釈から個人を理解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特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分類材料として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絵や写真を活用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しており、海外で開発されたテキスト情報のみの形式より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親しみやすい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職業情報の具体的なイメージ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を提供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の分類と分類結果の解釈のみを行えばよいので、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実施と整理が簡単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にでき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正方形/長方形 7" descr=""/>
          <p:cNvPicPr/>
          <p:nvPr/>
        </p:nvPicPr>
        <p:blipFill>
          <a:blip r:embed="rId1"/>
          <a:stretch/>
        </p:blipFill>
        <p:spPr>
          <a:xfrm>
            <a:off x="1689120" y="208080"/>
            <a:ext cx="5467320" cy="925560"/>
          </a:xfrm>
          <a:prstGeom prst="rect">
            <a:avLst/>
          </a:prstGeom>
          <a:ln w="0">
            <a:noFill/>
          </a:ln>
        </p:spPr>
      </p:pic>
      <p:pic>
        <p:nvPicPr>
          <p:cNvPr id="61" name="図 2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7434360" cy="4489560"/>
          </a:xfrm>
          <a:prstGeom prst="rect">
            <a:avLst/>
          </a:prstGeom>
          <a:ln w="0">
            <a:noFill/>
          </a:ln>
        </p:spPr>
      </p:pic>
      <p:grpSp>
        <p:nvGrpSpPr>
          <p:cNvPr id="62" name="テキスト ボックス 3"/>
          <p:cNvGrpSpPr/>
          <p:nvPr/>
        </p:nvGrpSpPr>
        <p:grpSpPr>
          <a:xfrm>
            <a:off x="1884240" y="5718240"/>
            <a:ext cx="2419560" cy="847800"/>
            <a:chOff x="1884240" y="5718240"/>
            <a:chExt cx="2419560" cy="847800"/>
          </a:xfrm>
        </p:grpSpPr>
        <p:pic>
          <p:nvPicPr>
            <p:cNvPr id="63" name="テキスト ボックス 3" descr=""/>
            <p:cNvPicPr/>
            <p:nvPr/>
          </p:nvPicPr>
          <p:blipFill>
            <a:blip r:embed="rId3"/>
            <a:stretch/>
          </p:blipFill>
          <p:spPr>
            <a:xfrm>
              <a:off x="1884240" y="5718240"/>
              <a:ext cx="24195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124000" y="595800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おもて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テキスト ボックス 10"/>
          <p:cNvGrpSpPr/>
          <p:nvPr/>
        </p:nvGrpSpPr>
        <p:grpSpPr>
          <a:xfrm>
            <a:off x="5486400" y="5718240"/>
            <a:ext cx="2419200" cy="841320"/>
            <a:chOff x="5486400" y="5718240"/>
            <a:chExt cx="2419200" cy="841320"/>
          </a:xfrm>
        </p:grpSpPr>
        <p:pic>
          <p:nvPicPr>
            <p:cNvPr id="66" name="テキスト ボックス 10" descr=""/>
            <p:cNvPicPr/>
            <p:nvPr/>
          </p:nvPicPr>
          <p:blipFill>
            <a:blip r:embed="rId4"/>
            <a:stretch/>
          </p:blipFill>
          <p:spPr>
            <a:xfrm>
              <a:off x="5486400" y="5718240"/>
              <a:ext cx="241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724360" y="59547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うら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四角形吹き出し 4"/>
          <p:cNvSpPr/>
          <p:nvPr/>
        </p:nvSpPr>
        <p:spPr>
          <a:xfrm>
            <a:off x="5724360" y="5832360"/>
            <a:ext cx="1943280" cy="612720"/>
          </a:xfrm>
          <a:prstGeom prst="wedgeRectCallout">
            <a:avLst>
              <a:gd name="adj1" fmla="val -18902"/>
              <a:gd name="adj2" fmla="val -1094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四角形吹き出し 11"/>
          <p:cNvSpPr/>
          <p:nvPr/>
        </p:nvSpPr>
        <p:spPr>
          <a:xfrm>
            <a:off x="2124000" y="5850000"/>
            <a:ext cx="1943280" cy="612720"/>
          </a:xfrm>
          <a:prstGeom prst="wedgeRectCallout">
            <a:avLst>
              <a:gd name="adj1" fmla="val -18902"/>
              <a:gd name="adj2" fmla="val -1094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4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演習の目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職業の写真やイメージをみて、自分がどんな仕事を選択し、どんな仕事を選択しないか、という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特徴をつか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選択しない仕事、選択する仕事について、それぞれの理由を検討し、</a:t>
            </a: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自分の仕事への興味、関心、考え方について理解を深め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5.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　実習前の準備と事前課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準備するもの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（参加者１人につき、１つずつ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カード活用の手引き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ページ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ページにある職業カード分析シー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事前課題：職業カード分析シートの一番上の欄に記入する（★セッションの前に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（「将来の進路について、現在考えていることを自由に書いてみましょう」の欄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-6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．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BY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カードの実施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773360"/>
            <a:ext cx="8642160" cy="475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Calibri"/>
              </a:rPr>
              <a:t>実施の流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体の教示（説明書を参照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絵や写真の要素を見て、そこに描かれている仕事に興味を引かれるか否かが重要です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全体の分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分類の記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解釈１：「選択しない」セッショ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解釈２：「選択する」セッショ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21:15Z</dcterms:created>
  <dc:creator>室山 晴美</dc:creator>
  <dc:description/>
  <dc:language>en-US</dc:language>
  <cp:lastModifiedBy>izu</cp:lastModifiedBy>
  <dcterms:modified xsi:type="dcterms:W3CDTF">2015-04-06T08:07:17Z</dcterms:modified>
  <cp:revision>141</cp:revision>
  <dc:subject/>
  <dc:title>スライド 1</dc:title>
</cp:coreProperties>
</file>